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E74A-345F-4907-9F77-72068654D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D9A5-B2BA-4924-BAB2-3941A676B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9368-B40E-40D1-B15B-C4B8F4ADB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9D2A-6383-453A-B86C-6F6AD7B58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6495-DEDD-4936-94DB-9591B3DB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2444-4247-41AD-8938-3E9974B30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0727-28E3-42E4-A8CB-8230430A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FE826-9D3C-4D74-B12E-F72F1A1D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6A87-FED9-43D4-BD73-160405573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559E-8106-4797-A8E1-3A9F28261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54B2-7B88-4F47-8678-3C93ED0ED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2FF4-3C3C-47BB-A7C2-BE23CC4E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DB7F9-DA43-4C9C-A08D-CE7A9888B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4:03:52Z</dcterms:created>
  <dc:creator>INVES-S6600A</dc:creator>
  <dc:description/>
  <dc:language>en-US</dc:language>
  <cp:lastModifiedBy>INVES-S6600A</cp:lastModifiedBy>
  <dcterms:modified xsi:type="dcterms:W3CDTF">2010-11-23T14:04:04Z</dcterms:modified>
  <cp:revision>1</cp:revision>
  <dc:subject/>
  <dc:title>Diapositiva 1</dc:title>
</cp:coreProperties>
</file>